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F3C-C561-4A37-96EC-61BA5E9A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60D-066E-4FF5-9F9F-50F83328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0CE-9508-410E-B3BD-74748095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3AF-131A-48A0-B3E2-EA57C117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A51-565E-42E9-B87C-7778FB6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107-6B8D-4113-8CDC-A131B137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80B-AD7E-49EE-9EAE-2A8FAACE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B17-579D-474E-AEBD-D4A5259F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84F-4E47-4937-83D6-5F54C48E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07F-011F-4F3A-805E-15B1EFB5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2E6-8438-4C65-98B5-12C86BE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C1D-96B3-427C-9B51-0F1A31A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1C4E-103B-4BF3-A2C4-9C91E7D09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ระบบช่วยผ่อนแรงสำหรับรถสามล้อโยกไฟฟ้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นกเวทย์ ตั้งพิมลรัตน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ศูนย์เทคโนโลยีอิเล็กทรอนิกส์และคอมพิวเตอร์แห่งชาต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ระทรวงวิทยาศาสตร์และเทคโนโยโลย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ันยายน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254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342900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1341000"/>
            <a:ext cx="24465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อุปกรณ์ทางก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805360"/>
            <a:ext cx="56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พูลเล่อัตราทด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: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(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ตัวอนุกรมกั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278136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แบตเตอรี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ตะกั่วกร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587700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มอเตอร์กระแสตร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2098440" cy="157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03640" y="549360"/>
            <a:ext cx="225720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00720" y="263700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300720" y="4724280"/>
            <a:ext cx="2448000" cy="18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11280" y="2637000"/>
            <a:ext cx="4968720" cy="3725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72000" y="1196640"/>
            <a:ext cx="2446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มอเตอร์โมดู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04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ระบบปลดมอเตอร์จากระบบขับเคลื่อ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04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วงจรตรวจวัดความเร็วในการโย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24280"/>
            <a:ext cx="763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สัญญาณ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าบ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รอบ 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วามถี่ในการโยกต่ำสุด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0.2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รั้ง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นาที </a:t>
            </a:r>
            <a:br>
              <a:rPr sz="4000"/>
            </a:b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วามถี่ในการโยกสูงสุด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ครั้ง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นาท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248360" cy="318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249360" cy="2436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219640" y="35002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345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ระบบทางไฟฟ้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997360"/>
            <a:ext cx="421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หลอด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บอกความจุแบตเตอร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6093000"/>
            <a:ext cx="421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สวิทช์สั่งงานและวงจรควบคุ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229360"/>
            <a:ext cx="41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วงจรควบคุมความเร็วมอเตอร์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บิตไมโครคอนโทรลเลอร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04840" y="1000080"/>
            <a:ext cx="6934320" cy="4400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84360" y="5589720"/>
            <a:ext cx="421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วงจรภาคควบคุ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934320" cy="458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734080"/>
            <a:ext cx="42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วงจรภาคกำลัง และการวัดกระแ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3992760" cy="500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00000" y="620640"/>
            <a:ext cx="3205440" cy="5434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260280"/>
            <a:ext cx="42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โปรแกรมการทำ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609300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Main progr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21360"/>
            <a:ext cx="37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Interrupt service rout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620640"/>
            <a:ext cx="324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ฟังค์ชันการทำงานอื่น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268280"/>
            <a:ext cx="75614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Electrical gear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-Load compens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- Sensor failure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-Over load shutdow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- Current limit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- Over temperatu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Maximum speed limi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Battery polarity prote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40000" y="333360"/>
            <a:ext cx="42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ผลการทดล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125360"/>
          <a:ext cx="8002440" cy="3918240"/>
        </p:xfrm>
        <a:graphic>
          <a:graphicData uri="http://schemas.openxmlformats.org/drawingml/2006/table">
            <a:tbl>
              <a:tblPr/>
              <a:tblGrid>
                <a:gridCol w="3816360"/>
                <a:gridCol w="4186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ความเร็วรถ 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(Km/H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0 -20 (max)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สามารถปรับได้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อัตราเร่ง 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(km/Hr/sec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7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วินาทีจาก 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0 – 10 km/H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ระยะทางต่อการชารจ์ 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(K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45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อัตราการไต่เนิน  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(deg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12 % (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tan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cs typeface="MS Mincho"/>
                        </a:rPr>
                        <a:t>ระยะทางการเบรค   </a:t>
                      </a: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(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  <a:ea typeface="MS Mincho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627280" y="5516640"/>
            <a:ext cx="37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4400" spc="-1" strike="noStrike">
                <a:solidFill>
                  <a:srgbClr val="000000"/>
                </a:solidFill>
                <a:latin typeface="Arial"/>
              </a:rPr>
              <a:t>ขอบคุณและสวัสดีครั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771720" cy="42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40360" y="692280"/>
            <a:ext cx="4511520" cy="133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64000" y="270828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5013360"/>
            <a:ext cx="563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มูลนิธิคนพิการไท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โรงงานไทยวี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บริษัท เด็นโ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ประเทศไท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580000" y="836640"/>
            <a:ext cx="17827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21948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3645000"/>
            <a:ext cx="2349360" cy="282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560" y="189000"/>
            <a:ext cx="75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งานที่เกี่ยวข้องที่ผ่านมาของ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T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2920" y="329868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เก้าอี้ล้อเลื่อนไฟฟ้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มูลนิธิคนพิการไท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63880" y="627840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</a:rPr>
              <a:t>สามล้อไฟฟ้าผู้สูงอายุ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mart Mo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50360" y="6364440"/>
            <a:ext cx="54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รถบรรทุกไฟฟ้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บ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รถไฟฟ้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ประเทศไท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เหตุผลและที่ม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ยานพาหนะเพื่อคนพิกา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ถสามล้อโยก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cs typeface="MS PGothic"/>
              </a:rPr>
              <a:t>เริ่ม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ัฒนามาเมื่อ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ปีที่แล้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ถสามล้อเครื่องยนต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หมาะเฉพาะผู้ชาย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ผู้ใหญ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ก้าอี้ล้อเลื่อ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ำไมจึงเป็นรถสามล้อโย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างเท้าและถนนไม่เอื้อต่อการใช้เก้าอี้ล้อเลื่อ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าคาถู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ครงสร้างไม่ซับซ้อน  น้ำหนักเบา ซ่อมแซมได้ง่า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บังคับเลี้ยว และเดินหน้าถอยหลังได้ง่าย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960720" cy="294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2919240"/>
            <a:ext cx="4789440" cy="3938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282920" cy="2955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319640" y="2492280"/>
            <a:ext cx="4824360" cy="3800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16360" y="6021000"/>
            <a:ext cx="56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สถิติการใช้รถสามล้อโยก – มีจำนวน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ค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333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ปัญห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21300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000000"/>
                </a:solidFill>
                <a:uFillTx/>
                <a:latin typeface="Arial"/>
              </a:rPr>
              <a:t>วัตถุประสงค์ของงา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981000"/>
            <a:ext cx="7920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052640"/>
            <a:ext cx="7561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ต้องออกแรงตลอดเวล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ความต่อเนื่องในการใช้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สมรรถนะของรถไม่ดี  ขึ้นเนินได้ลำบา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4005360"/>
            <a:ext cx="7561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ระบบช่วยผ่อนแรง – ต้นทุนต่ำ – ดัดแปลงไม่มาก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เป็นทางเลือกใหม่สำหรับเด็กและผู้สูงอาย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630360"/>
            <a:ext cx="84247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435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6357960" cy="585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35280" y="333360"/>
            <a:ext cx="532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โครงสร้างระบบโดยรวมที่นำเสน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03:52:51Z</dcterms:created>
  <dc:creator>Kanokvate</dc:creator>
  <dc:description/>
  <dc:language>en-US</dc:language>
  <cp:lastModifiedBy>seubk</cp:lastModifiedBy>
  <dcterms:modified xsi:type="dcterms:W3CDTF">2003-09-02T09:00:55Z</dcterms:modified>
  <cp:revision>13</cp:revision>
  <dc:subject/>
  <dc:title>ระบบช่วยผ่อนแรงสำหรับรถสามล้อโยกไฟฟ้า</dc:title>
</cp:coreProperties>
</file>