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0E9-90BE-49DA-89F5-85500E4D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C0F-ED8C-45F1-8849-39EA6EA4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AE4-E0FD-4958-8687-F74E2BE5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F66-3027-4F83-8F5E-3AFED9CE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1826-FA2A-4170-84B7-9E5926DE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AC6B-0CDB-4D41-820C-078586E5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3C84-4C7E-4060-9ACA-719C28C4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DD62-1102-4A7E-99A4-6E42E950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36B1-182A-4258-B389-FF412DD4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3FCA-7304-4BD5-9A0F-8D278CEB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2EB9-2788-4996-AD18-B360D979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EC5-1C84-4C56-8A18-D3EE54D1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9DA2-572B-40CB-A87C-ECC8E75E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67EA-FA06-4C9E-BBFA-99BD853C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263C-7BCF-4569-A71E-874ECE85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ECC0-8F7B-4641-807B-FC040DEB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3ABB-F70A-47A2-8054-4D27E3C9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3E3-F196-4D5F-9612-2F331807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D1A-0005-49B1-B0AA-04B8914E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995-AA22-477B-89FA-8A416C30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A31-596E-450B-A0D7-2B7E365D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5F9-CB49-43AA-9C3B-925A3FD9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D82-64E2-41EE-A766-BA95D194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5CB-8145-407B-A3CE-ED1FD010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B4B5-4432-49A6-8DC5-D3B72696DBD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8986-AD56-4A32-B301-25009051DBC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ynthiaSaysPortal.htm" TargetMode="External"/><Relationship Id="rId2" Type="http://schemas.openxmlformats.org/officeDocument/2006/relationships/hyperlink" Target="file:///CynthiaSaysPortal.htm" TargetMode="External"/><Relationship Id="rId3" Type="http://schemas.openxmlformats.org/officeDocument/2006/relationships/hyperlink" Target="file:///../ABAC/tools/wave.htm" TargetMode="External"/><Relationship Id="rId4" Type="http://schemas.openxmlformats.org/officeDocument/2006/relationships/hyperlink" Target="file:///../ABAC/tools/wave.htm" TargetMode="External"/><Relationship Id="rId5" Type="http://schemas.openxmlformats.org/officeDocument/2006/relationships/hyperlink" Target="file:///../ABAC/tools/wave.htm" TargetMode="Externa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  <a:ea typeface="Tahoma"/>
              </a:rPr>
              <a:t>e- Service </a:t>
            </a:r>
            <a:r>
              <a:rPr b="1" lang="th-TH" sz="3600" spc="-1" strike="noStrike">
                <a:solidFill>
                  <a:srgbClr val="003366"/>
                </a:solidFill>
                <a:latin typeface="Tahoma"/>
                <a:cs typeface="Tahoma"/>
              </a:rPr>
              <a:t>อีกก้าวหนึ่งที่คนพิการต้องก้าวตาม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427280" y="2997360"/>
            <a:ext cx="44701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6666"/>
                </a:solidFill>
                <a:latin typeface="Tahoma"/>
                <a:cs typeface="Tahoma"/>
              </a:rPr>
              <a:t>อ</a:t>
            </a:r>
            <a:r>
              <a:rPr b="0" lang="th-TH" sz="2000" spc="-1" strike="noStrike">
                <a:solidFill>
                  <a:srgbClr val="006666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006666"/>
                </a:solidFill>
                <a:latin typeface="Tahoma"/>
                <a:cs typeface="Tahoma"/>
              </a:rPr>
              <a:t>วันทนีย์ พันธชาติ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Assistive Technology Center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(ASTEC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National Electronics and Computer Technology Center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(NECTEC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ภาพแสดงสัญลักษณ์หน่วยงาน ASTEC"/>
          <p:cNvPicPr/>
          <p:nvPr/>
        </p:nvPicPr>
        <p:blipFill>
          <a:blip r:embed="rId1"/>
          <a:stretch/>
        </p:blipFill>
        <p:spPr>
          <a:xfrm>
            <a:off x="4932360" y="6265800"/>
            <a:ext cx="122544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ภาพแสดงสัญลักษณ์หน่วยงาน NECTEC"/>
          <p:cNvPicPr/>
          <p:nvPr/>
        </p:nvPicPr>
        <p:blipFill>
          <a:blip r:embed="rId2"/>
          <a:stretch/>
        </p:blipFill>
        <p:spPr>
          <a:xfrm>
            <a:off x="6659640" y="6337440"/>
            <a:ext cx="1800000" cy="390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ภาพแสดงตัวอย่างเว็บไซต์"/>
          <p:cNvPicPr/>
          <p:nvPr/>
        </p:nvPicPr>
        <p:blipFill>
          <a:blip r:embed="rId3"/>
          <a:stretch/>
        </p:blipFill>
        <p:spPr>
          <a:xfrm>
            <a:off x="0" y="4581360"/>
            <a:ext cx="3635280" cy="185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98880" y="5300640"/>
            <a:ext cx="32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  <a:ea typeface="Tahoma"/>
              </a:rPr>
              <a:t>Government IT Foru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  <a:ea typeface="Tahoma"/>
              </a:rPr>
              <a:t>“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  <a:ea typeface="Tahoma"/>
              </a:rPr>
              <a:t>e-Services </a:t>
            </a:r>
            <a:r>
              <a:rPr b="0" lang="th-TH" sz="1800" spc="-1" strike="noStrike">
                <a:solidFill>
                  <a:srgbClr val="006666"/>
                </a:solidFill>
                <a:latin typeface="Tahoma"/>
                <a:cs typeface="Tahoma"/>
              </a:rPr>
              <a:t>ก้าวอย่างไรให้ถึงฝั่ง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6666"/>
                </a:solidFill>
                <a:latin typeface="Tahoma"/>
                <a:cs typeface="Tahoma"/>
              </a:rPr>
              <a:t>วันที่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  <a:ea typeface="Tahoma"/>
              </a:rPr>
              <a:t>23 </a:t>
            </a:r>
            <a:r>
              <a:rPr b="0" lang="th-TH" sz="1800" spc="-1" strike="noStrike">
                <a:solidFill>
                  <a:srgbClr val="006666"/>
                </a:solidFill>
                <a:latin typeface="Tahoma"/>
                <a:cs typeface="Tahoma"/>
              </a:rPr>
              <a:t>มิถุนายน พ</a:t>
            </a:r>
            <a:r>
              <a:rPr b="0" lang="th-TH" sz="1800" spc="-1" strike="noStrike">
                <a:solidFill>
                  <a:srgbClr val="006666"/>
                </a:solidFill>
                <a:latin typeface="Tahoma"/>
                <a:ea typeface="Tahoma"/>
              </a:rPr>
              <a:t>.</a:t>
            </a:r>
            <a:r>
              <a:rPr b="0" lang="th-TH" sz="1800" spc="-1" strike="noStrike">
                <a:solidFill>
                  <a:srgbClr val="006666"/>
                </a:solidFill>
                <a:latin typeface="Tahoma"/>
                <a:cs typeface="Tahoma"/>
              </a:rPr>
              <a:t>ศ</a:t>
            </a:r>
            <a:r>
              <a:rPr b="0" lang="th-TH" sz="1800" spc="-1" strike="noStrike">
                <a:solidFill>
                  <a:srgbClr val="006666"/>
                </a:solidFill>
                <a:latin typeface="Tahoma"/>
                <a:ea typeface="Tahoma"/>
              </a:rPr>
              <a:t>. 254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66"/>
                </a:solidFill>
                <a:latin typeface="Tahoma"/>
                <a:cs typeface="Tahoma"/>
              </a:rPr>
              <a:t>ต้องทำอย่างไรบ้า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2590920" cy="1396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3280" y="2708280"/>
            <a:ext cx="2708280" cy="1785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835280" y="4581360"/>
            <a:ext cx="1800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66"/>
                </a:solidFill>
                <a:latin typeface="Tahoma"/>
                <a:cs typeface="Tahoma"/>
              </a:rPr>
              <a:t>ต้องทำอย่างไรบ้า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43324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เมื่อออกแบบเว็บไซต์ จะต้องนึกถึงผู้ใช้หลายๆประเภทไว้เสมอ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ทำตามข้อกำหนดของ “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ea typeface="Tahoma"/>
              </a:rPr>
              <a:t>W3C Web Content Accessibility guidelines”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http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:/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www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nectec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or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th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atc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webaccess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Checkpoints_Guideline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ph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เรียนรู้เทคนิคและเทคโนโลยีสิ่งอำนวยความสะดวกที่จะช่วยให้เว็บสามารถเข้าถึงโดยทุกค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 u="sng">
                <a:solidFill>
                  <a:srgbClr val="003366"/>
                </a:solidFill>
                <a:uFillTx/>
                <a:latin typeface="Tahoma"/>
                <a:cs typeface="Tahoma"/>
                <a:hlinkClick r:id="rId1" action="ppaction://hlinksldjump"/>
              </a:rPr>
              <a:t>ให้คนพิการทดสอบการใช้งานเว็บไซต์และใช้เครื่องมือตรวจสอ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ทดสอบเว็บไซต์กับ 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ea typeface="Tahoma"/>
              </a:rPr>
              <a:t>browsers 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หลาย 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ea typeface="Tahoma"/>
              </a:rPr>
              <a:t>browse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เป็นผู้สนับสนุนเว็บที่ทุกคนเข้าถึงและช่วยสร้างความตระหนักรู้กับกลุ่มผู้ออกแบบด้วยกั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66"/>
                </a:solidFill>
                <a:latin typeface="Tahoma"/>
                <a:cs typeface="Tahoma"/>
              </a:rPr>
              <a:t>ต้องทำอย่างไรบ้า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43324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Cynthia Say </a:t>
            </a:r>
            <a:r>
              <a:rPr b="0" lang="th-TH" sz="2400" spc="-1" strike="noStrike" u="sng">
                <a:solidFill>
                  <a:srgbClr val="003366"/>
                </a:solidFill>
                <a:uFillTx/>
                <a:latin typeface="Tahoma"/>
                <a:ea typeface="Tahoma"/>
                <a:hlinkClick r:id="rId1"/>
              </a:rPr>
              <a:t>(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http://www.cynthiasays.com</a:t>
            </a:r>
            <a:r>
              <a:rPr b="0" lang="th-TH" sz="2400" spc="-1" strike="noStrike" u="sng">
                <a:solidFill>
                  <a:srgbClr val="003366"/>
                </a:solidFill>
                <a:uFillTx/>
                <a:latin typeface="Tahoma"/>
                <a:ea typeface="Tahoma"/>
                <a:hlinkClick r:id="rId2"/>
              </a:rPr>
              <a:t>)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-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เป็นบริการฟรีที่ใช้ตรวจสอบ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Web Accessibility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แบบ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Onlin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Hisoftware (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ahoma"/>
              </a:rPr>
              <a:t>http://www.hisoftware.com/accmonitorsitetest/)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-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เป็นบริการฟรีที่ใช้ตรวจสอบ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Web Accessibility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แบบ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Onlin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 u="sng">
                <a:solidFill>
                  <a:srgbClr val="003366"/>
                </a:solidFill>
                <a:uFillTx/>
                <a:latin typeface="Tahoma"/>
                <a:ea typeface="Tahoma"/>
                <a:hlinkClick r:id="rId3"/>
              </a:rPr>
              <a:t>WAVE</a:t>
            </a:r>
            <a:r>
              <a:rPr b="0" lang="th-TH" sz="2400" spc="-1" strike="noStrike" u="sng">
                <a:solidFill>
                  <a:srgbClr val="003366"/>
                </a:solidFill>
                <a:uFillTx/>
                <a:latin typeface="Tahoma"/>
                <a:ea typeface="Tahoma"/>
                <a:hlinkClick r:id="rId4"/>
              </a:rPr>
              <a:t> (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http://www.wave.webaim.org/index.jsp</a:t>
            </a:r>
            <a:r>
              <a:rPr b="0" lang="th-TH" sz="2400" spc="-1" strike="noStrike" u="sng">
                <a:solidFill>
                  <a:srgbClr val="003366"/>
                </a:solidFill>
                <a:uFillTx/>
                <a:latin typeface="Tahoma"/>
                <a:ea typeface="Tahoma"/>
                <a:hlinkClick r:id="rId5"/>
              </a:rPr>
              <a:t>)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 -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เป็นบริการฟรีที่ใช้ตรวจสอบ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Web Accessibility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แบบ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Online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แต่การรายงานผลจะแสดงเป็นสัญลักษณ์ ตาม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SourceCode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ในหน้าเว็บนั้นๆ </a:t>
            </a:r>
            <a:br>
              <a:rPr sz="2400"/>
            </a:br>
            <a:r>
              <a:rPr b="0" lang="th-TH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66"/>
                </a:solidFill>
                <a:latin typeface="Tahoma"/>
                <a:cs typeface="Tahoma"/>
              </a:rPr>
              <a:t>ต้องทำอย่างไรบ้า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43324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เมื่อออกแบบเว็บไซต์ จะต้องนึกถึงผู้ใช้หลายๆประเภทไว้เสมอ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ทำตามข้อกำหนดของ “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ea typeface="Tahoma"/>
              </a:rPr>
              <a:t>W3C Web Content Accessibility guidelines”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http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:/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www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nectec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or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th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atc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webaccess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Checkpoints_Guideline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ph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เรียนรู้เทคนิคและเทคโนโลยีสิ่งอำนวยความสะดวกที่จะช่วยให้เว็บสามารถเข้าถึงโดยทุกค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ให้คนพิการทดสอบการใช้งานเว็บไซต์และใช้เครื่องมือตรวจสอ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ทดสอบเว็บไซต์กับ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browsers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หลาย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browse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เป็นผู้สนับสนุนเว็บที่ทุกคนเข้าถึงและช่วยสร้างความตระหนักรู้กับกลุ่มผู้ออกแบบด้วยกั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66"/>
                </a:solidFill>
                <a:latin typeface="Tahoma"/>
                <a:cs typeface="Tahoma"/>
              </a:rPr>
              <a:t>ต้องทำอย่างไรบ้า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ahoma"/>
              </a:rPr>
              <a:t>Opera Brows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ahoma"/>
              </a:rPr>
              <a:t>Internet Explor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ahoma"/>
              </a:rPr>
              <a:t>Netsca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ahoma"/>
              </a:rPr>
              <a:t>LYNX (Text Brows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ahoma"/>
              </a:rPr>
              <a:t>Homepage Reader (Voice Brows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459400" y="2362320"/>
            <a:ext cx="2371680" cy="1785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54720" y="4300560"/>
            <a:ext cx="2381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66"/>
                </a:solidFill>
                <a:latin typeface="Tahoma"/>
                <a:cs typeface="Tahoma"/>
              </a:rPr>
              <a:t>ต้องทำอย่างไรบ้า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43324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เมื่อออกแบบเว็บไซต์ จะต้องนึกถึงผู้ใช้หลายๆประเภทไว้เสมอ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ทำตามข้อกำหนดของ “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ea typeface="Tahoma"/>
              </a:rPr>
              <a:t>W3C Web Content Accessibility guidelines”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http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:/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www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nectec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or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th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atc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webaccess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Checkpoints_Guideline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ph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เรียนรู้เทคนิคและเทคโนโลยีสิ่งอำนวยความสะดวกที่จะช่วยให้เว็บสามารถเข้าถึงโดยทุกค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ให้คนพิการทดสอบการใช้งานเว็บไซต์และใช้เครื่องมือตรวจสอ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ทดสอบเว็บไซต์กับ 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ea typeface="Tahoma"/>
              </a:rPr>
              <a:t>browsers 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หลาย 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ea typeface="Tahoma"/>
              </a:rPr>
              <a:t>browse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เป็นผู้สนับสนุนเว็บที่ทุกคนเข้าถึงและช่วยสร้างความตระหนักรู้กับกลุ่มผู้ออกแบบด้วยกั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6666"/>
                </a:solidFill>
                <a:latin typeface="Arial"/>
              </a:rPr>
              <a:t>ตัวอย่างเว็บไซต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</a:t>
            </a:r>
            <a:r>
              <a:rPr b="0" lang="th-TH" sz="2800" spc="-1" strike="noStrike">
                <a:solidFill>
                  <a:srgbClr val="003366"/>
                </a:solidFill>
                <a:latin typeface="Arial"/>
              </a:rPr>
              <a:t>://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ww</a:t>
            </a:r>
            <a:r>
              <a:rPr b="0" lang="th-TH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llascityhall</a:t>
            </a:r>
            <a:r>
              <a:rPr b="0" lang="th-TH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</a:t>
            </a:r>
            <a:r>
              <a:rPr b="0" lang="th-TH" sz="2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llas</a:t>
            </a:r>
            <a:r>
              <a:rPr b="0" lang="th-TH" sz="2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</a:t>
            </a:r>
            <a:r>
              <a:rPr b="0" lang="th-TH" sz="2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ml</a:t>
            </a:r>
            <a:r>
              <a:rPr b="0" lang="th-TH" sz="2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b_accessiblity</a:t>
            </a:r>
            <a:r>
              <a:rPr b="0" lang="th-TH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snow.utoronto.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6666"/>
                </a:solidFill>
                <a:latin typeface="Arial"/>
              </a:rPr>
              <a:t>ติดต่อเร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โครงการวิจัยและพัฒนาเทคโนโลยีสิ่งอำนวยความสะดวกสำหรั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คนพิการ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www.nectec.or.th/atc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ศูนย์เทคโนโลยีอิเล็กทรอนิกส์และคอมพิวเตอร์แห่งชาต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112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ถนนพหลโยธิน ตำบลคลองหนึ่ง อำเภอคลองหลวง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จังหวัดปทุมธานี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12120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โทรศัพท์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0-2564-6900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ต่อ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2470-247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6666"/>
                </a:solidFill>
                <a:latin typeface="Tahoma"/>
                <a:cs typeface="Tahoma"/>
              </a:rPr>
              <a:t>กลุ่มคนพิการ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66"/>
                </a:solidFill>
                <a:latin typeface="Tahoma"/>
                <a:cs typeface="Tahoma"/>
              </a:rPr>
              <a:t>กลุ่มคนพิการทางการเห็น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Tahoma"/>
              </a:rPr>
              <a:t>(</a:t>
            </a:r>
            <a:r>
              <a:rPr b="0" lang="hi-IN" sz="2800" spc="-1" strike="noStrike">
                <a:solidFill>
                  <a:srgbClr val="003366"/>
                </a:solidFill>
                <a:latin typeface="Tahoma"/>
                <a:cs typeface="Tahoma"/>
              </a:rPr>
              <a:t>ตาเลือนราง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Tahoma"/>
              </a:rPr>
              <a:t>, </a:t>
            </a:r>
            <a:r>
              <a:rPr b="0" lang="hi-IN" sz="2800" spc="-1" strike="noStrike">
                <a:solidFill>
                  <a:srgbClr val="003366"/>
                </a:solidFill>
                <a:latin typeface="Tahoma"/>
                <a:cs typeface="Tahoma"/>
              </a:rPr>
              <a:t>ตาบอด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Tahoma"/>
              </a:rPr>
              <a:t>, </a:t>
            </a:r>
            <a:r>
              <a:rPr b="0" lang="hi-IN" sz="2800" spc="-1" strike="noStrike">
                <a:solidFill>
                  <a:srgbClr val="003366"/>
                </a:solidFill>
                <a:latin typeface="Tahoma"/>
                <a:cs typeface="Tahoma"/>
              </a:rPr>
              <a:t>ตาบอดสี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Tahoma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66"/>
                </a:solidFill>
                <a:latin typeface="Tahoma"/>
                <a:cs typeface="Tahoma"/>
              </a:rPr>
              <a:t>กลุ่มคนพิการทางการได้ยิน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Tahoma"/>
              </a:rPr>
              <a:t>(</a:t>
            </a:r>
            <a:r>
              <a:rPr b="0" lang="hi-IN" sz="2800" spc="-1" strike="noStrike">
                <a:solidFill>
                  <a:srgbClr val="003366"/>
                </a:solidFill>
                <a:latin typeface="Tahoma"/>
                <a:cs typeface="Tahoma"/>
              </a:rPr>
              <a:t>หูหนวก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Tahoma"/>
              </a:rPr>
              <a:t>, </a:t>
            </a:r>
            <a:r>
              <a:rPr b="0" lang="hi-IN" sz="2800" spc="-1" strike="noStrike">
                <a:solidFill>
                  <a:srgbClr val="003366"/>
                </a:solidFill>
                <a:latin typeface="Tahoma"/>
                <a:cs typeface="Tahoma"/>
              </a:rPr>
              <a:t>หูตึง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66"/>
                </a:solidFill>
                <a:latin typeface="Tahoma"/>
                <a:cs typeface="Tahoma"/>
              </a:rPr>
              <a:t>กลุ่มคนพิการทางร่างกาย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Tahoma"/>
              </a:rPr>
              <a:t>(</a:t>
            </a:r>
            <a:r>
              <a:rPr b="0" lang="hi-IN" sz="2800" spc="-1" strike="noStrike">
                <a:solidFill>
                  <a:srgbClr val="003366"/>
                </a:solidFill>
                <a:latin typeface="Tahoma"/>
                <a:cs typeface="Tahoma"/>
              </a:rPr>
              <a:t>ไม่มีแขน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Tahoma"/>
              </a:rPr>
              <a:t>, </a:t>
            </a:r>
            <a:r>
              <a:rPr b="0" lang="hi-IN" sz="2800" spc="-1" strike="noStrike">
                <a:solidFill>
                  <a:srgbClr val="003366"/>
                </a:solidFill>
                <a:latin typeface="Tahoma"/>
                <a:cs typeface="Tahoma"/>
              </a:rPr>
              <a:t>กล้ามเนื้อแขนอ่อนแรง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Tahoma"/>
              </a:rPr>
              <a:t>, </a:t>
            </a:r>
            <a:r>
              <a:rPr b="0" lang="hi-IN" sz="2800" spc="-1" strike="noStrike">
                <a:solidFill>
                  <a:srgbClr val="003366"/>
                </a:solidFill>
                <a:latin typeface="Tahoma"/>
                <a:cs typeface="Tahoma"/>
              </a:rPr>
              <a:t>สมองพิการ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66"/>
                </a:solidFill>
                <a:latin typeface="Tahoma"/>
                <a:cs typeface="Tahoma"/>
              </a:rPr>
              <a:t>กลุ่มคนพิการทางสติปัญญ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66"/>
                </a:solidFill>
                <a:latin typeface="Tahoma"/>
                <a:cs typeface="Tahoma"/>
              </a:rPr>
              <a:t>สถิติจดทะเบียนคนพิการจำแนกตามประเภทความพิการ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26920" y="3068640"/>
          <a:ext cx="8062920" cy="168912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  <a:gridCol w="1008000"/>
                <a:gridCol w="1006560"/>
                <a:gridCol w="1008000"/>
                <a:gridCol w="1008360"/>
                <a:gridCol w="100800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ทางการมองเห็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ทางการได้ยิ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ทางกาย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ทางจิตใจ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ทางสติปัญญ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พิการซ้ำซ้อ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ไม่ระบุความพิการ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ยอดรวม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,94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4,87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0,0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,77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,98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6,55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,07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75,23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971640" y="627696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3366"/>
                </a:solidFill>
                <a:latin typeface="Arial"/>
              </a:rPr>
              <a:t>ที่มาข้อมูล </a:t>
            </a:r>
            <a:r>
              <a:rPr b="0" lang="th-TH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h-TH" sz="1600" spc="-1" strike="noStrike">
                <a:solidFill>
                  <a:srgbClr val="003366"/>
                </a:solidFill>
                <a:latin typeface="Arial"/>
              </a:rPr>
              <a:t>สำนักส่งเสริมและพิทักษ์คนพิการ สำนักงานส่งเสริมสวัสดิภาพและพิทักษ์เด็ก เยาวชน ผู้ด้อยโอกาส คนพิการ และผู้สูงอาย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h-TH" sz="1600" spc="-1" strike="noStrike">
                <a:solidFill>
                  <a:srgbClr val="003366"/>
                </a:solidFill>
                <a:latin typeface="Arial"/>
              </a:rPr>
              <a:t>รวบรวมจากรายงานผลการดำเนินงานของสำนักฯ และสำนักงานพัฒนาสังคมและสวัสดิการจังหวัด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720" y="2565360"/>
            <a:ext cx="46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3366"/>
                </a:solidFill>
                <a:latin typeface="Arial"/>
              </a:rPr>
              <a:t>ตั้งแต่วันที่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th-TH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3366"/>
                </a:solidFill>
                <a:latin typeface="Arial"/>
              </a:rPr>
              <a:t>พฤศจิกายน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537</a:t>
            </a:r>
            <a:r>
              <a:rPr b="0" lang="th-TH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3366"/>
                </a:solidFill>
                <a:latin typeface="Arial"/>
              </a:rPr>
              <a:t>ถึง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1</a:t>
            </a:r>
            <a:r>
              <a:rPr b="0" lang="th-TH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3366"/>
                </a:solidFill>
                <a:latin typeface="Arial"/>
              </a:rPr>
              <a:t>พฤษภาคม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547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3366"/>
                </a:solidFill>
                <a:latin typeface="Tahoma"/>
                <a:ea typeface="Tahoma"/>
              </a:rPr>
              <a:t>Tim Berners-Lee, Director of the W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Tahoma"/>
              </a:rPr>
              <a:t>3</a:t>
            </a:r>
            <a:r>
              <a:rPr b="0" lang="th-TH" sz="3200" spc="-1" strike="noStrike">
                <a:solidFill>
                  <a:srgbClr val="003366"/>
                </a:solidFill>
                <a:latin typeface="Tahoma"/>
                <a:ea typeface="Tahoma"/>
              </a:rPr>
              <a:t>C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"The power of the Web is in its universality. Access by everyone regardless of disability is an essential aspect."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3645000"/>
            <a:ext cx="7324920" cy="14191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  <a:ea typeface="Tahoma"/>
              </a:rPr>
              <a:t>“</a:t>
            </a:r>
            <a:r>
              <a:rPr b="0" lang="th-TH" sz="1800" spc="-1" strike="noStrike">
                <a:solidFill>
                  <a:srgbClr val="003366"/>
                </a:solidFill>
                <a:latin typeface="Tahoma"/>
                <a:cs typeface="Tahoma"/>
              </a:rPr>
              <a:t>ผู้ออกแบบต้องรับผิดชอบต่อการออกแบบให้เว็บไซต์เข้าถึงได้โดยผู้ใช้ทุกคน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66"/>
                </a:solidFill>
                <a:latin typeface="Tahoma"/>
                <a:cs typeface="Tahoma"/>
              </a:rPr>
              <a:t>การออกแบบให้เข้าถึงได้จะต้องเป็นส่วนหนึ่งของขั้นตอนการออกแบบ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66"/>
                </a:solidFill>
                <a:latin typeface="Tahoma"/>
                <a:cs typeface="Tahoma"/>
              </a:rPr>
              <a:t>ไม่ใช่ส่วนเสริมที่จะไม่ทำหรือละเลยตามเวลาหรือเลือกเป็นกรณีไ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66"/>
                </a:solidFill>
                <a:latin typeface="Tahoma"/>
                <a:cs typeface="Tahoma"/>
              </a:rPr>
              <a:t>ผู้ออกแบบข้อมูลต้องมั่นใจได้ว่าเว็บไซต์นั้น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66"/>
                </a:solidFill>
                <a:latin typeface="Tahoma"/>
                <a:cs typeface="Tahoma"/>
              </a:rPr>
              <a:t>ผู้ที่ต้องการใช้ทุกคนสามารถเข้าถึงข้อมูลได้จริงๆ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  <a:ea typeface="Tahoma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6666"/>
                </a:solidFill>
                <a:latin typeface="Tahoma"/>
                <a:cs typeface="Tahoma"/>
              </a:rPr>
              <a:t>คนพิการจะสามารถใช้บริการได้อย่างไร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กลุ่มคนพิการทางการมองเห็น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ahoma"/>
              </a:rPr>
              <a:t>Screen Reader </a:t>
            </a:r>
            <a:r>
              <a:rPr b="0" lang="th-TH" sz="2000" spc="-1" strike="noStrike">
                <a:solidFill>
                  <a:srgbClr val="003366"/>
                </a:solidFill>
                <a:latin typeface="Tahoma"/>
                <a:cs typeface="Tahoma"/>
              </a:rPr>
              <a:t>โปรแกรมอ่านหน้าจ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ahoma"/>
              </a:rPr>
              <a:t>Voice Browser </a:t>
            </a:r>
            <a:r>
              <a:rPr b="0" lang="th-TH" sz="2000" spc="-1" strike="noStrike">
                <a:solidFill>
                  <a:srgbClr val="003366"/>
                </a:solidFill>
                <a:latin typeface="Tahoma"/>
                <a:cs typeface="Tahoma"/>
              </a:rPr>
              <a:t>โปรแกรมบราวเซอร์แบบมีเสียง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ahoma"/>
              </a:rPr>
              <a:t>Braille Display </a:t>
            </a:r>
            <a:r>
              <a:rPr b="0" lang="th-TH" sz="2000" spc="-1" strike="noStrike">
                <a:solidFill>
                  <a:srgbClr val="003366"/>
                </a:solidFill>
                <a:latin typeface="Tahoma"/>
                <a:cs typeface="Tahoma"/>
              </a:rPr>
              <a:t>อุปกรณ์แสดงผลเบรลล์จากจอภาพ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ahoma"/>
              </a:rPr>
              <a:t>Enlarge Text </a:t>
            </a:r>
            <a:r>
              <a:rPr b="0" lang="th-TH" sz="2000" spc="-1" strike="noStrike">
                <a:solidFill>
                  <a:srgbClr val="003366"/>
                </a:solidFill>
                <a:latin typeface="Tahoma"/>
                <a:cs typeface="Tahoma"/>
              </a:rPr>
              <a:t>โปรแกรมขยายหน้าจ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กลุ่มคนพิการทางการได้ยิน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66"/>
                </a:solidFill>
                <a:latin typeface="Tahoma"/>
                <a:cs typeface="Tahoma"/>
              </a:rPr>
              <a:t>สร้าง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ahoma"/>
              </a:rPr>
              <a:t>Caption </a:t>
            </a:r>
            <a:r>
              <a:rPr b="0" lang="th-TH" sz="2000" spc="-1" strike="noStrike">
                <a:solidFill>
                  <a:srgbClr val="003366"/>
                </a:solidFill>
                <a:latin typeface="Tahoma"/>
                <a:cs typeface="Tahoma"/>
              </a:rPr>
              <a:t>หรือ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ahoma"/>
              </a:rPr>
              <a:t>Subtitle </a:t>
            </a:r>
            <a:r>
              <a:rPr b="0" lang="th-TH" sz="2000" spc="-1" strike="noStrike">
                <a:solidFill>
                  <a:srgbClr val="003366"/>
                </a:solidFill>
                <a:latin typeface="Tahoma"/>
                <a:cs typeface="Tahoma"/>
              </a:rPr>
              <a:t>ให้กับ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ahoma"/>
              </a:rPr>
              <a:t>Multimed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66"/>
                </a:solidFill>
                <a:latin typeface="Tahoma"/>
                <a:cs typeface="Tahoma"/>
              </a:rPr>
              <a:t>ต้องทำอย่างไรบ้า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43324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เมื่อออกแบบเว็บไซต์ จะต้องนึกถึงผู้ใช้หลายๆประเภทไว้เสมอ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ทำตามข้อกำหนดของ “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ea typeface="Tahoma"/>
              </a:rPr>
              <a:t>W3C Web Content Accessibility guidelines”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http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:/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www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nectec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or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th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atc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webaccess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Checkpoints_Guideline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ph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เรียนรู้เทคนิคและเทคโนโลยีสิ่งอำนวยความสะดวกที่จะช่วยให้เว็บสามารถเข้าถึงโดยทุกค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ให้คนพิการทดสอบการใช้งานเว็บไซต์และใช้เครื่องมือตรวจสอ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ทดสอบเว็บไซต์กับ 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ea typeface="Tahoma"/>
              </a:rPr>
              <a:t>browsers 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หลาย 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ea typeface="Tahoma"/>
              </a:rPr>
              <a:t>browse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เป็นผู้สนับสนุนเว็บที่ทุกคนเข้าถึงและช่วยสร้างความตระหนักรู้กับกลุ่มผู้ออกแบบด้วยกั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66"/>
                </a:solidFill>
                <a:latin typeface="Tahoma"/>
                <a:cs typeface="Tahoma"/>
              </a:rPr>
              <a:t>ต้องทำอย่างไรบ้า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348000" y="2421000"/>
            <a:ext cx="4176720" cy="2131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2035080" cy="2879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348000" y="472428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796000" y="5013360"/>
            <a:ext cx="19461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66"/>
                </a:solidFill>
                <a:latin typeface="Tahoma"/>
                <a:cs typeface="Tahoma"/>
              </a:rPr>
              <a:t>ต้องทำอย่างไรบ้า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43324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เมื่อออกแบบเว็บไซต์ จะต้องนึกถึงผู้ใช้หลายๆประเภทไว้เสมอ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ทำตามข้อกำหนดของ “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W3C Web Content Accessibility guidelines”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</a:t>
            </a:r>
            <a:r>
              <a:rPr b="0" lang="th-TH" sz="2400" spc="-1" strike="noStrike">
                <a:solidFill>
                  <a:srgbClr val="003366"/>
                </a:solidFill>
                <a:latin typeface="Arial"/>
              </a:rPr>
              <a:t>://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ww</a:t>
            </a:r>
            <a:r>
              <a:rPr b="0" lang="th-TH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ctec</a:t>
            </a:r>
            <a:r>
              <a:rPr b="0" lang="th-TH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</a:t>
            </a:r>
            <a:r>
              <a:rPr b="0" lang="th-TH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</a:t>
            </a:r>
            <a:r>
              <a:rPr b="0" lang="th-TH" sz="24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c</a:t>
            </a:r>
            <a:r>
              <a:rPr b="0" lang="th-TH" sz="24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baccess</a:t>
            </a:r>
            <a:r>
              <a:rPr b="0" lang="th-TH" sz="24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eckpoints_Guideline</a:t>
            </a:r>
            <a:r>
              <a:rPr b="0" lang="th-TH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เรียนรู้เทคนิคและเทคโนโลยีสิ่งอำนวยความสะดวกที่จะช่วยให้เว็บสามารถเข้าถึงโดยทุกค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ให้คนพิการทดสอบการใช้งานเว็บไซต์และใช้เครื่องมือตรวจสอ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ทดสอบเว็บไซต์กับ 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ea typeface="Tahoma"/>
              </a:rPr>
              <a:t>browsers 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หลาย 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ea typeface="Tahoma"/>
              </a:rPr>
              <a:t>browse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เป็นผู้สนับสนุนเว็บที่ทุกคนเข้าถึงและช่วยสร้างความตระหนักรู้กับกลุ่มผู้ออกแบบด้วยกั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66"/>
                </a:solidFill>
                <a:latin typeface="Tahoma"/>
                <a:cs typeface="Tahoma"/>
              </a:rPr>
              <a:t>ต้องทำอย่างไรบ้า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43324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เมื่อออกแบบเว็บไซต์ จะต้องนึกถึงผู้ใช้หลายๆประเภทไว้เสมอ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ทำตามข้อกำหนดของ “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ea typeface="Tahoma"/>
              </a:rPr>
              <a:t>W3C Web Content Accessibility guidelines”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http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:/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www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nectec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or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th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atc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webaccess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Checkpoints_Guideline</a:t>
            </a:r>
            <a:r>
              <a:rPr b="0" lang="th-TH" sz="24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ph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เรียนรู้เทคนิคและเทคโนโลยีสิ่งอำนวยความสะดวกที่จะช่วยให้เว็บสามารถเข้าถึงโดยทุกค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ให้คนพิการทดสอบการใช้งานเว็บไซต์และใช้เครื่องมือตรวจสอ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ทดสอบเว็บไซต์กับ 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ea typeface="Tahoma"/>
              </a:rPr>
              <a:t>browsers 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หลาย </a:t>
            </a:r>
            <a:r>
              <a:rPr b="0" lang="th-TH" sz="2400" spc="-1" strike="noStrike">
                <a:solidFill>
                  <a:srgbClr val="99ccff"/>
                </a:solidFill>
                <a:latin typeface="Tahoma"/>
                <a:ea typeface="Tahoma"/>
              </a:rPr>
              <a:t>browse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99ccff"/>
                </a:solidFill>
                <a:latin typeface="Tahoma"/>
                <a:cs typeface="Tahoma"/>
              </a:rPr>
              <a:t>เป็นผู้สนับสนุนเว็บที่ทุกคนเข้าถึงและช่วยสร้างความตระหนักรู้กับกลุ่มผู้ออกแบบด้วยกั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08:33:55Z</dcterms:created>
  <dc:creator>namnueng</dc:creator>
  <dc:description/>
  <dc:language>en-US</dc:language>
  <cp:lastModifiedBy>namnueng</cp:lastModifiedBy>
  <dcterms:modified xsi:type="dcterms:W3CDTF">2004-06-28T06:28:11Z</dcterms:modified>
  <cp:revision>10</cp:revision>
  <dc:subject/>
  <dc:title>ภาพนิ่ง 1</dc:title>
</cp:coreProperties>
</file>